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A4D-1015-4A60-B11C-9B112DAC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BD5-BC1F-4ECA-ABDD-821AC8FF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873-0B11-4179-A140-8EDDFDDB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FD5-3BEE-4871-B5B2-F08A9B77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B23-F6BA-4053-ADD4-6B065704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CDF-4238-4721-A00C-8ECD9F62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785-C1E9-470C-9B7A-ED9B84BD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1C4-EB89-4AD4-8991-7172AF56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90C-8912-49E8-8FB9-95403E10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313-C717-488F-8E13-E7B04A8D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AEA-3BE9-46B5-A57D-0FAECD6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983-E189-4324-84D2-229129FA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AB69-64E7-4A9B-B055-5B41C690284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lh6.ggpht.com/_Uk6EDDx1cWA/SAyGJOC5XpI/AAAAAAAAAdI/YVn0q4HeNRI/P4215504.JPG&amp;imgrefurl=http://picasaweb.google.com/lh/photo/KsLQleKOOKJJx6W9MFtzgg&amp;usg=__qT4zmOcLhwZMBtRl4FVi4N2pJMA=&amp;h=1200&amp;w=1600&amp;sz=25&amp;hl=en&amp;start=14&amp;tbnid=MytAY9caIEeFBM:&amp;tbnh=113&amp;tbnw=150&amp;prev=/images%3Fq%3Ddeua%2Briver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800" spc="-1" strike="noStrike" u="sng">
                <a:solidFill>
                  <a:srgbClr val="993300"/>
                </a:solidFill>
                <a:uFillTx/>
                <a:latin typeface="Arial"/>
              </a:rPr>
              <a:t>The Deua Riv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6600cc"/>
                </a:solidFill>
                <a:latin typeface="Arial"/>
              </a:rPr>
              <a:t>By Anastasia hug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 flipV="1" rot="105000">
            <a:off x="1458720" y="5529960"/>
            <a:ext cx="6400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rot="10800000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42155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800600"/>
            <a:ext cx="1905120" cy="1838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Deua"/>
          <p:cNvPicPr/>
          <p:nvPr/>
        </p:nvPicPr>
        <p:blipFill>
          <a:blip r:embed="rId3"/>
          <a:stretch/>
        </p:blipFill>
        <p:spPr>
          <a:xfrm>
            <a:off x="6858000" y="380880"/>
            <a:ext cx="19810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0000ff"/>
            </a:gs>
            <a:gs pos="100000">
              <a:srgbClr val="66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 Deua river is about 4 hrs from Sydney to get there you need to go through Goulburn &amp; Braidw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447920" y="304920"/>
            <a:ext cx="632448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ocation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6" descr="iMapPlot Reference Image"/>
          <p:cNvPicPr/>
          <p:nvPr/>
        </p:nvPicPr>
        <p:blipFill>
          <a:blip r:embed="rId1"/>
          <a:stretch/>
        </p:blipFill>
        <p:spPr>
          <a:xfrm>
            <a:off x="6781680" y="4572000"/>
            <a:ext cx="209556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mapdata?CxUrd939HU6w7Qgg____________AQwtK3fd_TVOsO0IQLACSJwBUgJBVZABBsoBAmVu"/>
          <p:cNvPicPr/>
          <p:nvPr/>
        </p:nvPicPr>
        <p:blipFill>
          <a:blip r:embed="rId2"/>
          <a:stretch/>
        </p:blipFill>
        <p:spPr>
          <a:xfrm>
            <a:off x="2209680" y="4419720"/>
            <a:ext cx="320040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2362320" y="5410080"/>
            <a:ext cx="1104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ua riv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11"/>
          <p:cNvSpPr txBox="1"/>
          <p:nvPr/>
        </p:nvSpPr>
        <p:spPr>
          <a:xfrm>
            <a:off x="7010280" y="6172200"/>
            <a:ext cx="1105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ua riv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3429000" y="5334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4"/>
          <p:cNvSpPr/>
          <p:nvPr/>
        </p:nvSpPr>
        <p:spPr>
          <a:xfrm flipV="1">
            <a:off x="8001000" y="58669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7238880" y="4267080"/>
            <a:ext cx="10670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ydeny</a:t>
            </a:r>
            <a:endParaRPr b="0" lang="en-US" sz="1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8305920" y="4648320"/>
            <a:ext cx="3045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50000">
              <a:srgbClr val="cc0099"/>
            </a:gs>
            <a:gs pos="100000">
              <a:srgbClr val="66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920" y="2133720"/>
          <a:ext cx="8381880" cy="4195800"/>
        </p:xfrm>
        <a:graphic>
          <a:graphicData uri="http://schemas.openxmlformats.org/drawingml/2006/table">
            <a:tbl>
              <a:tblPr/>
              <a:tblGrid>
                <a:gridCol w="2819160"/>
                <a:gridCol w="2735280"/>
                <a:gridCol w="2827440"/>
              </a:tblGrid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red out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action &amp; guidel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reduction in water flow due to irrigation of crops and reduced rainfall in the catchment are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keep the river in a sustainable conditi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must not take as water for other things less importan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should try to keep it how it was when God made i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er’s can install water tanks and buy plants that don’t use as much water. Farmer’s could mange farming ways better. For E.G: watering at night &amp; mulching tre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WordArt 22"/>
          <p:cNvSpPr txBox="1"/>
          <p:nvPr/>
        </p:nvSpPr>
        <p:spPr>
          <a:xfrm>
            <a:off x="1447920" y="304920"/>
            <a:ext cx="67816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we can save the river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50000">
              <a:srgbClr val="66ff66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o walking in th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pl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w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9"/>
          <p:cNvSpPr txBox="1"/>
          <p:nvPr/>
        </p:nvSpPr>
        <p:spPr>
          <a:xfrm>
            <a:off x="762120" y="533520"/>
            <a:ext cx="75438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ings to do at the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ua River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21:02:48Z</dcterms:created>
  <dc:creator>Therese</dc:creator>
  <dc:description/>
  <dc:language>en-US</dc:language>
  <cp:lastModifiedBy>giampaoli</cp:lastModifiedBy>
  <dcterms:modified xsi:type="dcterms:W3CDTF">2009-05-02T01:44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